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0C9-876A-4D3B-8288-CFB8432F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E87-1276-41A5-8091-4D3CB736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389-FEDD-4EAF-8227-321AFCF3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5E6-7ECB-4667-9826-EEFAFCC2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55A-2343-454C-BCF6-F8588A54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68D6-1BF2-4685-A134-9A69E89E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300-5C82-425D-9AA3-B391052C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F81-D976-456A-B5B8-C38DEA7D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D72-138A-4ABE-AF32-CEAF4577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ED1-F84B-41FB-B739-69354051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1B8-DC91-4620-BC4D-3613A7EB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FBA-7905-4743-B07C-23677BB9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7945-D830-4405-B532-F4A12FC7F0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762120" y="2057400"/>
            <a:ext cx="7315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3366"/>
                </a:solidFill>
                <a:latin typeface="Times New Roman"/>
              </a:rPr>
              <a:t>Enterprise 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3366"/>
                </a:solidFill>
                <a:latin typeface="Times New Roman"/>
              </a:rPr>
              <a:t>Business Challen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6576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304920" y="1106640"/>
            <a:ext cx="4419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Aims of th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orking as a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Deciding what makes a successful busi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Design a saleabl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Making the product and deciding how to sell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Persuading others to pay for you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Make as many as you can to maximise your teams prof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C:\Users\Simon\AppData\Roaming\Microsoft\Media Catalog\Downloaded Clips\clad\j0434111.jpg"/>
          <p:cNvPicPr/>
          <p:nvPr/>
        </p:nvPicPr>
        <p:blipFill>
          <a:blip r:embed="rId1"/>
          <a:stretch/>
        </p:blipFill>
        <p:spPr>
          <a:xfrm>
            <a:off x="4724280" y="1219320"/>
            <a:ext cx="4114800" cy="277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98108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380880" y="12193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hat do you need to set up and run a successful manufacturing compan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3738600" cy="2939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6934320" y="152280"/>
            <a:ext cx="198108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143000" y="129528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3366"/>
                </a:solidFill>
                <a:latin typeface="Times New Roman"/>
              </a:rPr>
              <a:t>5 minut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19320" y="281952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3366"/>
                </a:solidFill>
                <a:latin typeface="Times New Roman"/>
              </a:rPr>
              <a:t>2 minut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066680" y="419112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3366"/>
                </a:solidFill>
                <a:latin typeface="Times New Roman"/>
              </a:rPr>
              <a:t>1 minut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98108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80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delay="18000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8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delay="6000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304920" y="12193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738600" cy="2940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83808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Good publ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172200" y="5105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6172200" y="32767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Good ICT and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6019920" y="1981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bility to transport product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048120" y="5791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Qualified, skilful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3276720" y="1600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 product that others want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380880" y="335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Invest in developing new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57200" y="48006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Staff communicate and work well as a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98108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643200" cy="5486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228600" y="914400"/>
            <a:ext cx="396252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3510000" cy="52848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4495680" y="914400"/>
            <a:ext cx="396252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600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380880" y="13716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Brainstorm ideas for products that we could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04920" y="2971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57200" y="27432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366"/>
                </a:solidFill>
                <a:latin typeface="Times New Roman"/>
              </a:rPr>
              <a:t>4 minut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57200" y="4876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1 minu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57200" y="38098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66"/>
                </a:solidFill>
                <a:latin typeface="Times New Roman"/>
              </a:rPr>
              <a:t>2 minut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4648320" y="762120"/>
            <a:ext cx="3813120" cy="5562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98108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2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12000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2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6000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767360" cy="5445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82880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380880" y="1447920"/>
            <a:ext cx="50292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Times New Roman"/>
              </a:rPr>
              <a:t>What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Make your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Devise your marketing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ork out how much you want to sell your product for and hope your sales pitch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Use your profit to buy more materials and make more products which can be s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C:\Users\Simon\AppData\Roaming\Microsoft\Media Catalog\Downloaded Clips\cla1\j0403601.jpg"/>
          <p:cNvPicPr/>
          <p:nvPr/>
        </p:nvPicPr>
        <p:blipFill>
          <a:blip r:embed="rId1"/>
          <a:stretch/>
        </p:blipFill>
        <p:spPr>
          <a:xfrm>
            <a:off x="5715000" y="1143000"/>
            <a:ext cx="3089160" cy="3809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5410080" y="5181480"/>
            <a:ext cx="35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The winning team will simply be the one that make most prof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36196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21:07:31Z</dcterms:created>
  <dc:creator>Simon</dc:creator>
  <dc:description/>
  <dc:language>en-US</dc:language>
  <cp:lastModifiedBy> </cp:lastModifiedBy>
  <dcterms:modified xsi:type="dcterms:W3CDTF">2010-07-20T10:40:13Z</dcterms:modified>
  <cp:revision>6</cp:revision>
  <dc:subject/>
  <dc:title>PowerPoint Presentation</dc:title>
</cp:coreProperties>
</file>